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285-FE35-4644-804E-665B6127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AA8-CB6E-456D-A29D-857F6C71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A5D-0410-4345-B45A-F58E8663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7F8-6DD5-4903-B93D-88BB5E79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4C0-DF01-4DDF-B580-EB63E821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DE8-55C8-419E-ABE8-FF466D0A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5B1-FE48-41D7-874D-99FA0F7F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683-8B68-4DCC-8688-4CD9EBF2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3C1-DDE9-41DE-8A67-372C4742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9D6-2AE4-4D1A-904B-4EFDC68B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CF7-899F-4F87-947D-29711847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211-4FED-41DA-9046-98162347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FCEC-2446-40F2-9764-95218C1F3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uni Tech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8:59Z</dcterms:created>
  <dc:creator>Jose</dc:creator>
  <dc:description/>
  <dc:language>en-US</dc:language>
  <cp:lastModifiedBy>Jose</cp:lastModifiedBy>
  <dcterms:modified xsi:type="dcterms:W3CDTF">2006-06-29T02:29:27Z</dcterms:modified>
  <cp:revision>1</cp:revision>
  <dc:subject/>
  <dc:title>Amyuni Tech Sample</dc:title>
</cp:coreProperties>
</file>